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608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3752-00D3-440D-B0DF-E5A63CACBC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95320" y="4686480"/>
            <a:ext cx="49435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4812-54CE-4EAA-BFE2-404E0260EE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95320" y="4460400"/>
            <a:ext cx="49435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167F-2E63-43D0-8B0D-68286E1C77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95320" y="4460400"/>
            <a:ext cx="49435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C4BC-DA03-44E4-BB19-F377209270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5320" y="4460400"/>
            <a:ext cx="49435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F41B-6FE3-46A4-9BD0-31C80A0A31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95320" y="4460400"/>
            <a:ext cx="494352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E6C9-0EFE-4AB8-91DE-19EEAB8691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787-806D-4A1A-976C-0F4DF94D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264-6997-4071-9C63-0A88B701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981-55EE-4A9E-B606-BBBF8B6B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B09-D3DF-4D66-A4BE-5196F637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28F-E744-4E79-B8F9-72F47611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886-AD7B-4564-BFFC-D9C8888E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9F5-78EC-45A1-868E-C4B89AA7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319-79FD-42CB-9018-D90034C8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6EF-FD28-4B37-856F-987AAFF2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E8D-41A0-4E09-B160-B88E700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3FA-B194-4452-96BE-9B7A1BC7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1F3-E849-4E13-BD55-0F54C467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6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ED1F-E68B-48F0-9F5B-28A2C190EC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LezecLanoSiluetaVlevoSch2"/>
          <p:cNvPicPr/>
          <p:nvPr/>
        </p:nvPicPr>
        <p:blipFill>
          <a:blip r:embed="rId2"/>
          <a:stretch/>
        </p:blipFill>
        <p:spPr>
          <a:xfrm>
            <a:off x="0" y="0"/>
            <a:ext cx="996840" cy="2882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1" descr="PanoramaMalyBila"/>
          <p:cNvPicPr/>
          <p:nvPr/>
        </p:nvPicPr>
        <p:blipFill>
          <a:blip r:embed="rId3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7" name="Zástupný symbol pro číslo snímku 4"/>
          <p:cNvSpPr/>
          <p:nvPr/>
        </p:nvSpPr>
        <p:spPr>
          <a:xfrm>
            <a:off x="8478720" y="6518160"/>
            <a:ext cx="658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BDA5-56D4-41C7-B9C8-83D7CD613DC2}" type="slidenum">
              <a:rPr b="1" lang="cs-CZ" sz="1800" spc="-1" strike="noStrike">
                <a:solidFill>
                  <a:srgbClr val="cbcbcb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9120" y="16509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c6080"/>
                </a:solidFill>
                <a:latin typeface="Arial"/>
              </a:rPr>
              <a:t>Valná hromada ČHS 2019</a:t>
            </a:r>
            <a:endParaRPr b="1" lang="en-US" sz="4800" spc="-1" strike="noStrike">
              <a:solidFill>
                <a:srgbClr val="2c6080"/>
              </a:solidFill>
              <a:latin typeface="Arial"/>
            </a:endParaRPr>
          </a:p>
        </p:txBody>
      </p:sp>
      <p:pic>
        <p:nvPicPr>
          <p:cNvPr id="52" name="Picture 4" descr="logo CHS sirsi nové"/>
          <p:cNvPicPr/>
          <p:nvPr/>
        </p:nvPicPr>
        <p:blipFill>
          <a:blip r:embed="rId1"/>
          <a:stretch/>
        </p:blipFill>
        <p:spPr>
          <a:xfrm>
            <a:off x="2016000" y="3384720"/>
            <a:ext cx="4923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84200" y="609480"/>
            <a:ext cx="72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Kontrola usnesení VH ČHS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77760" y="1467000"/>
            <a:ext cx="7840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snesení VH 2018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alná hromada uložila 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konnému výboru předložit nejpozději na valnou hromadu v roce 2020 řešení zastupování členů mladších osmnácti let při hlasování na valné hromadě, a to nejpozději 6 měsíců před touto valnou hromad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Úkol bude splněn ve stanoveném termí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044960" y="0"/>
            <a:ext cx="2157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46240" y="487440"/>
            <a:ext cx="753408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há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olba předsedajícího a pracovních komi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dstavení partnerů Č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práva mandátové komise o usnášení schopnosti V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válení jednacího a volebního řádu V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válení programu V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válení P. Aksamita ve funkci člena V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roční zpráva ČHS za rok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práva o plnění usnesení VH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práva o hospodaření ČHS v roce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práva Revizní komise Č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vrh zvýšení odměny předsedy Č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vrh rozpočtu ČHS na rok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vrh zrušení pobočných spol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vrh novely Disciplinárního řá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formace – Rejstřík sportu, členská data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stoupení předsedů odborných komisí Č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věrečná disk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snesení V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5000"/>
              </a:lnSpc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končení V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152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c6080"/>
                </a:solidFill>
                <a:latin typeface="Arial"/>
              </a:rPr>
              <a:t>Zpráva o činnosti ČHS</a:t>
            </a:r>
            <a:br>
              <a:rPr sz="4800"/>
            </a:br>
            <a:r>
              <a:rPr b="1" lang="cs-CZ" sz="3200" spc="-1" strike="noStrike">
                <a:solidFill>
                  <a:srgbClr val="2c6080"/>
                </a:solidFill>
                <a:latin typeface="Arial"/>
              </a:rPr>
              <a:t>VH 2019</a:t>
            </a:r>
            <a:endParaRPr b="1" lang="en-US" sz="3200" spc="-1" strike="noStrike">
              <a:solidFill>
                <a:srgbClr val="2c6080"/>
              </a:solidFill>
              <a:latin typeface="Arial"/>
            </a:endParaRPr>
          </a:p>
        </p:txBody>
      </p:sp>
      <p:pic>
        <p:nvPicPr>
          <p:cNvPr id="91" name="Picture 4" descr="logo CHS sirsi nové"/>
          <p:cNvPicPr/>
          <p:nvPr/>
        </p:nvPicPr>
        <p:blipFill>
          <a:blip r:embed="rId1"/>
          <a:stretch/>
        </p:blipFill>
        <p:spPr>
          <a:xfrm>
            <a:off x="511200" y="2889360"/>
            <a:ext cx="49226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87280" y="903240"/>
            <a:ext cx="734220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Organizace, personal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konný výbor ČHS pracoval v pětičlenném slož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oce 2018 se konalo 10 jednání výkonného výb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ČHS pracovalo 9 odborných komi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kretariát pracoval v základní pětičlenné sestavě, v průběhu roku došlo k personálním změnám a ve 2. pololetí k posílení (ekonom, 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62080" y="1052640"/>
            <a:ext cx="7342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Člen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oce 2018 se opět zvýšil počet čle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HS měl na konci roku 2018 celkem 23 123 členů (vč.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toho 6 876 dětí a mládeže do 18ti let vče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ČHS bylo zaregistrováno 395 odd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9 z nich byly členské spol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19240" y="179280"/>
            <a:ext cx="782640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Mezinárodní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národní projekt Climbing for Everybody (2016-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byl uzavřen, prošel povinným externím auditem, výstupy odevzdány. Navazujeme v mládeži (mezinár. kemp mládeže v Ostrově), údržbě skal, vzdělávání a senior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UMA – členství v prezidiu, účast na VH (Brusel), příprava 3 letého projektu zaměřeného na horské chaty, cesty a lezecké oblasti, zvažuje se integrace s C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IAA – účast ve 4 komisích z toho 2 korespondenčně, účast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racovní skupině pro strategii, účast na VH (Ulánbátar); odchod CAI, debaty o změnách/odchodu s DAV a Ö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FSC – účast na VH (Innsbruck); OH 2024 Paří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SMF – účast na skialpinistických soutěž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MU – účast na VH (Bursa), rozvojové projekty, spolupráce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mládeží, vzájemná podpora na mezinárodním fó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MES, PZS – rozvoj partne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14280" y="833400"/>
            <a:ext cx="7288200" cy="53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Servis pro čl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evy na chatách JAMES ve Vysokých Tatr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evy na 181 chatách PZS ve Slovin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HS Trio - členství ČHS + PZS + cestovní pojištění UNI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stovní pojištění UNIQA pro horolezce s tarify na míru </a:t>
            </a: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zjednodušení, základní tarif s odpovědností i úrazem, limit plnění zvýšen na 3 mil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razové pojištění, pojištění trenérů, instru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ižší startovné na závodech Č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iho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rzy pro instruktory, trenéry, rozhodčí, stavě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ické akce pro veřej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eb, čtvrtletní Zpravodaj, Ročenka ČHS, Faceboo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4280" y="833400"/>
            <a:ext cx="728820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Granty Č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nty na podporu mlád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09680" indent="-3427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děleno 497 tisíc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09680" indent="-3427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nt využilo 40 odd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nty na údržbu s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09680" indent="-3427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děleno 94 tisíc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09680" indent="-3427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řeno 15 akc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nty na podporu tradičních horolezeckých a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09680" indent="-3427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děleno 79 tisíc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09680" indent="-3427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řeno 21 akc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36600" y="246240"/>
            <a:ext cx="7656480" cy="53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Síť klubů mlád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sítě je zapojeno 45 spolků věnujících se mládež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chod z projektu pod Komisi mlád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á finanční podpora klubů ve výši cca 835 tisíc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nostní přijetí do akreditovaného kurzu Instruktor lezení na umělé stěně + trenér C, proběhly 2 kompletní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regionálních trené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tkání zástupců klubů mládeže v Jihl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á soutěž Mladý horal, finále v Malé Skále </a:t>
            </a: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– zúčastnilo se 22 čtyřčlenných družs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insko – český horolezecký kemp v Bavš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sedkyně KM Magdaléna Jančíková jmenována členkou Youth Commission UI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rava mezinárodního campu mládeže v Ostro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rava open závodů pro hobby katego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87280" y="506520"/>
            <a:ext cx="7656840" cy="63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Údržba skal,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držba skal - práce 18ti OVK a jejich správců s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kup materiálu v objemu cca 1,5 mil. Kč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241 borháků; 1 315 kruhů a písk. borháků; 1 091 slaň.kru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 školení správců skal a prvovýstupců – Písek, Český rá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lepšování a doplňování databáze Ská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upráce s mapy.cz, nově data pro IZ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uštění mobilní aplikace Skály ČR pro Android i iOS </a:t>
            </a:r>
            <a:br>
              <a:rPr sz="2000"/>
            </a:b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2,2 tis staž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ání s NPČŠ a KRNAP – nové návštěvní řá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minář horolezectví a ochrana přírody v Sedmihork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louva o spolupráci se Správou NP České Švýcarsko, příprava smlouvy s AOPK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 a členství v radě Krkonošského národního pa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173240" y="873000"/>
            <a:ext cx="73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c6080"/>
                </a:solidFill>
                <a:latin typeface="Arial"/>
              </a:rPr>
              <a:t>Mandátová kom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1173240" y="1830240"/>
            <a:ext cx="6443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oslav Šram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Kří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iří Kali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35080" y="289080"/>
            <a:ext cx="8008920" cy="56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Ochrana přír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dnání a získaná povolení v roce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NPR Kaňon Labe – výjimka formou OOP, platnost do 31.12.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PP Tiské stěny – souhlas formou OOP, platnost do 31.12.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NPR Pulčín – Hradisko - Pět kostelů, výjimka, platnost do 31.10.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PR Křížová cesta (Křížový vrch) – souhlas formou OOP, plat. do 31.12.2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NPR Broumovské stěny – výjimka formou OOP, platnost do 31.12.20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NPP Polické stěny – výjimka formou OOP, platnost do 31.12.2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PP Tisůvka + PP Rozštípená skála, souhlas, platnost do 31.12.20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PR Tetínské skály – souhlas, platnost do 30.6.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PP Radotínské údolí – souhlas, platnost do 31.12.2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 Údolí Jizery – souhlas, platnost do 31.12.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řešené: PR Kobyla, NPR Karlštejn a Bor v CHKO Broumovsko Zahájeno: NPR Adršpašsko - Teplické skály a NPR Děvín Kotel Soutěs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08160" y="684360"/>
            <a:ext cx="765648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struktorské kurzy (SCI, RCI, HAL) – kvalifikaci instruktora získalo 21 členů Č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školení instru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reditovaný kurz Instruktor lezení na umělé stěně a trenér C – 2 turnusy, kvalifikaci získalo 20 členů Č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arantované horoškoly – certifikát mají 4 horošk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 metodických akcí pro veřejnost, přes 200 účast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rava metodických materiálů (karty, kni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. Vogel se účastnil práce Mountaineering Commission UI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9. ročník Pelikánova semináře ve spolupráci s SHS JAMES – horská medic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95480" y="384120"/>
            <a:ext cx="77896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Sport – alpi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něk Hák, Marek Holeček - Zlatý cepín za Satisfaci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am Ondra – Wilde Country Award pro nejlepšího skalního lez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am Ondra – cena Jiřího - Guth Jarkovského za Si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kolíci – 8 členné družstvo mladých alpinistů, tříletý výcvik, výjezdy do Saska a Bergel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stupy roku 20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27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up roku s hvězdičkou - Super  Crackinette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vní OS 9a+ – A. On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27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 Výstupů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27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 čestných uz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95480" y="384120"/>
            <a:ext cx="778968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Sport – soutěžní le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y ČP v lezení na obtížnost, boulderingu a v lezení na rychlost, dospělí i mládež včetně ČP U14 v lezení na obtížnost, celkem více než 20 zá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prezentační družstva dospělých i mládeže ve všech disciplínách - 51 závodníků, 20 dospělých, 31 dětí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 na 25 mezinárodních závod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S Innsbruck – celkem 6 bodovaných míst, A. Ondra 2.místo v lezení na obtížnost i v kombin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ládežnická reprezentace – historicky nejúspěšnější sezona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 medailí, 30 postupů do finále…, J. Konečný 2. místo na MSJ a 1. místo na MEJ v lezení na obtíž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. Binter zvolen mezi finalisty soutěže Trenér roku 2018 Č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95480" y="384120"/>
            <a:ext cx="778968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Sport – soutěžní le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4 mladých závodníků ve VSCM, 4 trenéři, 2 asist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 tréninková centra – Praha, B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a CSMV Olymp 3 + 4 závod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upráce s Laboratoří sportovní motoriky FTVS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terapeutická péče – Fyzio Gym Co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uzemská a zahraniční soustřed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rz trenérů B, C, kurz pro rozhod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upráce s SHS J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6 trenérů (4 x A, 19 x B, 85 x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4 hlavních rozhodč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4 hlavních stavěčů, 6 stavěčů, 13 aspira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95480" y="384120"/>
            <a:ext cx="77896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Sport – skialpi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riál závodů HUDY Český pohár ve skialpin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tyřčlenné reprezentační druž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 na ME a závodech SP pořádaných ISM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trémní sjezdy ve Vysokých Tatrá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růstá počet skialpinistických výjezdů mimo alpské oblasti (Gruzie, Turecko, Írán, Tádžikistá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sko-československý firnový memoriál v Norsku (35 účastník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tkání skialpinistů v Beskydech (140 účastník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c6080"/>
                </a:solidFill>
                <a:latin typeface="Arial"/>
              </a:rPr>
              <a:t>Vývoj rozpočtu ČHS</a:t>
            </a: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43120" y="1747800"/>
          <a:ext cx="7759440" cy="3306960"/>
        </p:xfrm>
        <a:graphic>
          <a:graphicData uri="http://schemas.openxmlformats.org/drawingml/2006/table">
            <a:tbl>
              <a:tblPr/>
              <a:tblGrid>
                <a:gridCol w="609480"/>
                <a:gridCol w="1231920"/>
                <a:gridCol w="1155600"/>
                <a:gridCol w="1117800"/>
                <a:gridCol w="1130040"/>
                <a:gridCol w="1130400"/>
                <a:gridCol w="1384200"/>
              </a:tblGrid>
              <a:tr h="289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tace vš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spěv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.příj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oč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 jm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61 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32 6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 6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709 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70 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40 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274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7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60 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 0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08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00 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45 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71 6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95 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 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971 0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978 3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57 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2746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70 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 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51 9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59 2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74 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32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11 6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33 6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2 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98 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29 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12 2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2746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40 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32 6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 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31 3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72 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05 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98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07 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3 4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528 8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72 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28 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2746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13 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49 6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 1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34 8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543 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08 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32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06 5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19 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 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499 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355 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80 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</a:tr>
              <a:tr h="2746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784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11 9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 0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408 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00 7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77 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895 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68 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4 759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848 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22 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467 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e4ff"/>
                    </a:solidFill>
                  </a:tcPr>
                </a:tc>
              </a:tr>
            </a:tbl>
          </a:graphicData>
        </a:graphic>
      </p:graphicFrame>
      <p:sp>
        <p:nvSpPr>
          <p:cNvPr id="120" name="Obdélník 1"/>
          <p:cNvSpPr/>
          <p:nvPr/>
        </p:nvSpPr>
        <p:spPr>
          <a:xfrm>
            <a:off x="3890880" y="5110200"/>
            <a:ext cx="50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bfbfbf"/>
                </a:solidFill>
                <a:latin typeface="Arial"/>
              </a:rPr>
              <a:t>* + 1 180 308 příjmy vázané na činnost komis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Graf 5"/>
          <p:cNvGraphicFramePr/>
          <p:nvPr/>
        </p:nvGraphicFramePr>
        <p:xfrm>
          <a:off x="1353960" y="353880"/>
          <a:ext cx="6653520" cy="50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Graf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353880"/>
                    <a:ext cx="665352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222200" y="228600"/>
            <a:ext cx="740268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c6080"/>
                </a:solidFill>
                <a:latin typeface="Arial"/>
              </a:rPr>
              <a:t>Dotace MŠ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pre 2.039 tis. </a:t>
            </a:r>
            <a:r>
              <a:rPr b="0" i="1" lang="cs-CZ" sz="2000" spc="-1" strike="noStrike">
                <a:solidFill>
                  <a:srgbClr val="ffd243"/>
                </a:solidFill>
                <a:latin typeface="Arial"/>
              </a:rPr>
              <a:t>2.242 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lent z 860 tis. na 1.925 t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ganizace sportu 8.123 tis. </a:t>
            </a:r>
            <a:r>
              <a:rPr b="0" i="1" lang="cs-CZ" sz="2000" spc="-1" strike="noStrike">
                <a:solidFill>
                  <a:srgbClr val="ffd243"/>
                </a:solidFill>
                <a:latin typeface="Arial"/>
              </a:rPr>
              <a:t>8.373 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znamné akce </a:t>
            </a:r>
            <a:r>
              <a:rPr b="0" lang="cs-CZ" sz="2000" spc="-1" strike="noStrike">
                <a:solidFill>
                  <a:srgbClr val="bfbfbf"/>
                </a:solidFill>
                <a:latin typeface="Arial"/>
              </a:rPr>
              <a:t>z 650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. 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ě investice do sportovního vybavení </a:t>
            </a:r>
            <a:r>
              <a:rPr b="0" i="1" lang="cs-CZ" sz="2000" spc="-1" strike="noStrike">
                <a:solidFill>
                  <a:srgbClr val="ffc000"/>
                </a:solidFill>
                <a:latin typeface="Arial"/>
              </a:rPr>
              <a:t>(žádost o 6.423 ti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luby: 550 – 3.300  Kč/ mládežníka – přímo klub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ametry pro výpoč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chozí výsle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fbfbf"/>
                </a:solidFill>
                <a:latin typeface="Arial"/>
              </a:rPr>
              <a:t>Počet čle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fbfbf"/>
                </a:solidFill>
                <a:latin typeface="Arial"/>
              </a:rPr>
              <a:t>Počet mládež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fbfbf"/>
                </a:solidFill>
                <a:latin typeface="Arial"/>
              </a:rPr>
              <a:t>Sportovní výsl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a projektu – specifická kritéria, nezávislí hodnoti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31840" y="264960"/>
            <a:ext cx="7758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Situace kolem financí, dotací a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MŠMT se zvyšuje odbornost, předvídatelnost se zlepš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pravuje se přechod na Agenturu pro sport - rizi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tlivé programy se účtují projektově, závazné podkapit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ste počet omezujících podmínek v jednotlivých program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ě se objevila podmínka finanční spoluúč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ste složitost plá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růběžného controllingu dle struktury dot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stou odborné nároky na ekonomickou a právní agen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HS je od 1.2.2019 plátcem DPH, konec úvah o s.r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erpání je potřeba průběžně přizpůsobovat dle vývoj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podmínek dot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očet předkládáme letos podrobnější, odpovídá kvartálnímu reportin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173240" y="873000"/>
            <a:ext cx="73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c6080"/>
                </a:solidFill>
                <a:latin typeface="Arial"/>
              </a:rPr>
              <a:t>Návrhová kom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"/>
          <p:cNvSpPr/>
          <p:nvPr/>
        </p:nvSpPr>
        <p:spPr>
          <a:xfrm>
            <a:off x="1173240" y="1784520"/>
            <a:ext cx="644364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omáš F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ožena Valent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omáš Kubl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65400" y="493560"/>
            <a:ext cx="765648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Kancelář Č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října 2018 nové sídlo: Praha 5, Smíchov; Nádražní 21/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enerální sekretář: Božena Valent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konom: Jana Schlögl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27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tní: Martina Hofma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retariát, průkazy: Ivana Trávn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3427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igádníci – průkazy: Jiří Faflák, Soňa Voráč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rt: Kateřina Zelen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ládež, metodika: Kristýna Šmíd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rketing, média: Radana Plev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6a6a6"/>
                </a:solidFill>
                <a:latin typeface="Arial"/>
              </a:rPr>
              <a:t>Externí právníci: Petr Kunert, Veronika Žá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 pro komise na DPP, Ž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19360" y="457200"/>
            <a:ext cx="74246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  <a:ea typeface="Arial"/>
              </a:rPr>
              <a:t>Vývoj rozpočtu kanceláře ČHS 2009-2018</a:t>
            </a:r>
            <a:endParaRPr b="1" lang="en-US" sz="2800" spc="-1" strike="noStrike">
              <a:solidFill>
                <a:srgbClr val="2c608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11360" y="1866960"/>
          <a:ext cx="8130960" cy="3162240"/>
        </p:xfrm>
        <a:graphic>
          <a:graphicData uri="http://schemas.openxmlformats.org/drawingml/2006/table">
            <a:tbl>
              <a:tblPr/>
              <a:tblGrid>
                <a:gridCol w="2847960"/>
                <a:gridCol w="1238040"/>
                <a:gridCol w="1263600"/>
                <a:gridCol w="1386000"/>
                <a:gridCol w="1395360"/>
              </a:tblGrid>
              <a:tr h="452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é výd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64 7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19 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348 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472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65911"/>
                          </a:solidFill>
                          <a:latin typeface="Arial"/>
                        </a:rPr>
                        <a:t>členské příspě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65911"/>
                          </a:solidFill>
                          <a:latin typeface="Arial"/>
                        </a:rPr>
                        <a:t>3 660 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65911"/>
                          </a:solidFill>
                          <a:latin typeface="Arial"/>
                        </a:rPr>
                        <a:t>3 732 6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65911"/>
                          </a:solidFill>
                          <a:latin typeface="Arial"/>
                        </a:rPr>
                        <a:t>4 211 9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65911"/>
                          </a:solidFill>
                          <a:latin typeface="Arial"/>
                        </a:rPr>
                        <a:t>4 468 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díl příspěv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kancelá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419 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908 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 186 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 844 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díl administrati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č z příspěvku na kan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logo CHS sirsi nové"/>
          <p:cNvPicPr/>
          <p:nvPr/>
        </p:nvPicPr>
        <p:blipFill>
          <a:blip r:embed="rId1"/>
          <a:stretch/>
        </p:blipFill>
        <p:spPr>
          <a:xfrm>
            <a:off x="2330280" y="2978280"/>
            <a:ext cx="4923000" cy="2581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3480" y="314280"/>
            <a:ext cx="8151840" cy="19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c6080"/>
                </a:solidFill>
                <a:latin typeface="Arial"/>
              </a:rPr>
              <a:t>Hospodaření ČHS 2018</a:t>
            </a:r>
            <a:br>
              <a:rPr sz="4800"/>
            </a:br>
            <a:endParaRPr b="1" lang="en-US" sz="4800" spc="-1" strike="noStrike">
              <a:solidFill>
                <a:srgbClr val="2c6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84027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cs-CZ" sz="3000" spc="-1" strike="noStrike">
                <a:solidFill>
                  <a:srgbClr val="2c6080"/>
                </a:solidFill>
                <a:latin typeface="Arial"/>
              </a:rPr>
              <a:t>Vyúčtování roku 2018</a:t>
            </a:r>
            <a:br>
              <a:rPr sz="3000"/>
            </a:br>
            <a:endParaRPr b="1" lang="en-US" sz="3000" spc="-1" strike="noStrike">
              <a:solidFill>
                <a:srgbClr val="2c608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042920"/>
          <a:ext cx="8229600" cy="4724640"/>
        </p:xfrm>
        <a:graphic>
          <a:graphicData uri="http://schemas.openxmlformats.org/drawingml/2006/table">
            <a:tbl>
              <a:tblPr/>
              <a:tblGrid>
                <a:gridCol w="4044960"/>
                <a:gridCol w="2455920"/>
                <a:gridCol w="1728720"/>
              </a:tblGrid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BĚŽNÁ ČINNOST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č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5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o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běžná činnost celk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702 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3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- příspěv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68 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- prodej dr. materi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- prodej služ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- kl. úro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 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Partneř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4 7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- dotace RE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39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9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říjmy – dotace T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92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5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– dotace ORG. SPORTU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2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vázané na činnost komis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180 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5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říjmy – dotace hl.m. Pra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4391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c6080"/>
                </a:solidFill>
                <a:latin typeface="Arial"/>
              </a:rPr>
              <a:t>Vyúčtování roku 2018</a:t>
            </a:r>
            <a:endParaRPr b="1" lang="en-US" sz="3000" spc="-1" strike="noStrike">
              <a:solidFill>
                <a:srgbClr val="2c608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61960" y="985680"/>
          <a:ext cx="8229600" cy="5112000"/>
        </p:xfrm>
        <a:graphic>
          <a:graphicData uri="http://schemas.openxmlformats.org/drawingml/2006/table">
            <a:tbl>
              <a:tblPr/>
              <a:tblGrid>
                <a:gridCol w="3322800"/>
                <a:gridCol w="1584000"/>
                <a:gridCol w="1582920"/>
                <a:gridCol w="1739880"/>
              </a:tblGrid>
              <a:tr h="487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JE BĚŽNÁ ČINNOST 2018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č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4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je n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o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JE (bez samostatných akc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7 232 2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8 412 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7 9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odní skialpinis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02 8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97 8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ěžní lez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5 627 3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5 914 8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4 8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ěžní ledolez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68 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68 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inis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68 5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474 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3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340 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458 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4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4 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4 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7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AA + E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84 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84 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8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držba sk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 356 8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 531 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 5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8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áde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 037 4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 056 0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 58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4 844 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4 845 8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4 977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, mé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505 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749 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88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ční skialpinis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3 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3 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ská medic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 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47 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y JAMES &amp; PZ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85 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85 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9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ční a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70 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70 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8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er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4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ce pro sport. veřej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3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3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3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4391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c6080"/>
                </a:solidFill>
                <a:latin typeface="Arial"/>
              </a:rPr>
              <a:t>Vyúčtování roku 2018</a:t>
            </a:r>
            <a:endParaRPr b="1" lang="en-US" sz="3000" spc="-1" strike="noStrike">
              <a:solidFill>
                <a:srgbClr val="2c608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61960" y="1046160"/>
          <a:ext cx="6502320" cy="1063800"/>
        </p:xfrm>
        <a:graphic>
          <a:graphicData uri="http://schemas.openxmlformats.org/drawingml/2006/table">
            <a:tbl>
              <a:tblPr/>
              <a:tblGrid>
                <a:gridCol w="4046400"/>
                <a:gridCol w="2455920"/>
              </a:tblGrid>
              <a:tr h="291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CE SAMOSTATNÉ mimo ko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ce jednoleté (20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0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je - Magistrát hl.m. Pra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61960" y="2224080"/>
          <a:ext cx="8229600" cy="2587680"/>
        </p:xfrm>
        <a:graphic>
          <a:graphicData uri="http://schemas.openxmlformats.org/drawingml/2006/table">
            <a:tbl>
              <a:tblPr/>
              <a:tblGrid>
                <a:gridCol w="4044960"/>
                <a:gridCol w="2455920"/>
                <a:gridCol w="1728720"/>
              </a:tblGrid>
              <a:tr h="2872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ce víceleté - průběž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oč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2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6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OV - projekty mládež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8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2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ovní poplat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8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OV  - úro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2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rpání v roce 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58 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6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ky přijaté v roce 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2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ky přijaté v předchozích let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71 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ní prostřed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13 4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61960" y="4940280"/>
          <a:ext cx="6502320" cy="1528920"/>
        </p:xfrm>
        <a:graphic>
          <a:graphicData uri="http://schemas.openxmlformats.org/drawingml/2006/table">
            <a:tbl>
              <a:tblPr/>
              <a:tblGrid>
                <a:gridCol w="4046400"/>
                <a:gridCol w="2455920"/>
              </a:tblGrid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SMUS+ grant 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5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 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 752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0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rp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68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70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z 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7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8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4391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c6080"/>
                </a:solidFill>
                <a:latin typeface="Arial"/>
              </a:rPr>
              <a:t>Vyúčtování roku 2018</a:t>
            </a:r>
            <a:endParaRPr b="1" lang="en-US" sz="3000" spc="-1" strike="noStrike">
              <a:solidFill>
                <a:srgbClr val="2c608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76200" y="1623960"/>
          <a:ext cx="6502680" cy="1470240"/>
        </p:xfrm>
        <a:graphic>
          <a:graphicData uri="http://schemas.openxmlformats.org/drawingml/2006/table">
            <a:tbl>
              <a:tblPr/>
              <a:tblGrid>
                <a:gridCol w="4046760"/>
                <a:gridCol w="2455920"/>
              </a:tblGrid>
              <a:tr h="2970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RPÁNÍ ROZPOČTU CELKEM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č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66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ek běžné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2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ek samostatných akc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rpání rezer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70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ek CELK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 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0000" y="232920"/>
            <a:ext cx="736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c6080"/>
                </a:solidFill>
                <a:latin typeface="Arial"/>
              </a:rPr>
              <a:t>Účetní skutečnosti zjištěné </a:t>
            </a:r>
            <a:br>
              <a:rPr sz="3200"/>
            </a:br>
            <a:r>
              <a:rPr b="1" lang="cs-CZ" sz="3200" spc="-1" strike="noStrike">
                <a:solidFill>
                  <a:srgbClr val="2c6080"/>
                </a:solidFill>
                <a:latin typeface="Arial"/>
              </a:rPr>
              <a:t>po rozeslání bulletinu</a:t>
            </a:r>
            <a:endParaRPr b="1" lang="en-US" sz="32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0520" y="1758600"/>
            <a:ext cx="849312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ástka za pořádání kvalifikačního závodu na Smíchově 3/18:  46,- tis.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sun výdajů za práce na databázi členů – posunutí úhrady z 10/18 do 3/19:  Částka za migraci a čištění dat 97,-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ě částky navrhujeme  uhradit z kapitoly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ástka 200,- tis. Kč – pořízení nehmotného majetku - licence k databázi -  dlouhodobého aktiva, navrhujeme uhradit z úspor minulých let (promítne se do roku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808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Rozvaha ČHS k 31.12.2018</a:t>
            </a:r>
            <a:endParaRPr b="1" lang="en-US" sz="28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146" name="Rectangle 123"/>
          <p:cNvSpPr/>
          <p:nvPr/>
        </p:nvSpPr>
        <p:spPr>
          <a:xfrm>
            <a:off x="457200" y="2898720"/>
            <a:ext cx="934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38120" y="1425600"/>
          <a:ext cx="8194680" cy="5221440"/>
        </p:xfrm>
        <a:graphic>
          <a:graphicData uri="http://schemas.openxmlformats.org/drawingml/2006/table">
            <a:tbl>
              <a:tblPr/>
              <a:tblGrid>
                <a:gridCol w="1119240"/>
                <a:gridCol w="925560"/>
                <a:gridCol w="968400"/>
                <a:gridCol w="977760"/>
                <a:gridCol w="1020960"/>
                <a:gridCol w="1093680"/>
                <a:gridCol w="977760"/>
                <a:gridCol w="1111320"/>
              </a:tblGrid>
              <a:tr h="299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a celkem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02 7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64 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65 8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77 5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823 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237 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550 6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ouhod. maje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 6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 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 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 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 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 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48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so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ěžní prostř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29 4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72 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72 4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543 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355 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00 7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22 7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6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hledáv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 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 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23 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42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 př. ob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7 9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6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9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 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4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a celkem (Kč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02 7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64 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65 8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77 5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823 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237 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550 6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 kapitá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65 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89 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05 5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823 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450 6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65 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56 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 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 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01 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764 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40 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4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6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47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 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22 5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4 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70 3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12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0 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2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nosy př. ob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 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 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7 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 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 6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8 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9 0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63040" y="-360"/>
            <a:ext cx="8580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c6080"/>
                </a:solidFill>
                <a:latin typeface="Arial"/>
                <a:ea typeface="ＭＳ Ｐゴシック"/>
              </a:rPr>
              <a:t>Návrh zvýšení odměny předsedy ČHS</a:t>
            </a:r>
            <a:endParaRPr b="1" lang="en-US" sz="36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149" name="TextovéPole 4"/>
          <p:cNvSpPr/>
          <p:nvPr/>
        </p:nvSpPr>
        <p:spPr>
          <a:xfrm>
            <a:off x="1035000" y="1498680"/>
            <a:ext cx="73915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vrhuje se zvýšit dosavadní odměnu předsedy, která byla schválena Valnou hromadou ČHS 2015, tak, aby odpovídala vývoji průměrné mzdy od roku 20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počet návrhu výše měsíční odměny dle údajů ČS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Q 2015 průměrná mzda v ČR 25.306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4Q 2018 průměrná mzda v ČR 33.84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růst o 33,7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H v roce 2015 schválila odměnu předsedy 22.500 Kč/mě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le růstu prům. mzdy v ČR tomu odpovídá 30.100 Kč/mě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131840" y="173160"/>
            <a:ext cx="73422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c6080"/>
                </a:solidFill>
                <a:latin typeface="Arial"/>
              </a:rPr>
              <a:t>Partneři Č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1" descr=""/>
          <p:cNvPicPr/>
          <p:nvPr/>
        </p:nvPicPr>
        <p:blipFill>
          <a:blip r:embed="rId1"/>
          <a:stretch/>
        </p:blipFill>
        <p:spPr>
          <a:xfrm>
            <a:off x="3781440" y="506412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61" name="Obrázek 4" descr=""/>
          <p:cNvPicPr/>
          <p:nvPr/>
        </p:nvPicPr>
        <p:blipFill>
          <a:blip r:embed="rId2"/>
          <a:stretch/>
        </p:blipFill>
        <p:spPr>
          <a:xfrm>
            <a:off x="1131840" y="1147680"/>
            <a:ext cx="70534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9" descr="logo CHS sirsi nové"/>
          <p:cNvPicPr/>
          <p:nvPr/>
        </p:nvPicPr>
        <p:blipFill>
          <a:blip r:embed="rId1"/>
          <a:stretch/>
        </p:blipFill>
        <p:spPr>
          <a:xfrm>
            <a:off x="2278080" y="2916360"/>
            <a:ext cx="4923000" cy="2581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50840" y="-281520"/>
            <a:ext cx="7702560" cy="289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c6080"/>
                </a:solidFill>
                <a:latin typeface="Arial"/>
              </a:rPr>
              <a:t>Návrh rozpočtu ČHS 2019</a:t>
            </a:r>
            <a:br>
              <a:rPr sz="4400"/>
            </a:br>
            <a:endParaRPr b="1" lang="en-US" sz="4800" spc="-1" strike="noStrike">
              <a:solidFill>
                <a:srgbClr val="2c6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120" y="133200"/>
            <a:ext cx="73976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c6080"/>
                </a:solidFill>
                <a:latin typeface="Arial"/>
              </a:rPr>
              <a:t>Návrh rozpočtu 2019 - příjmy</a:t>
            </a: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39560" y="1503360"/>
          <a:ext cx="8274240" cy="4145040"/>
        </p:xfrm>
        <a:graphic>
          <a:graphicData uri="http://schemas.openxmlformats.org/drawingml/2006/table">
            <a:tbl>
              <a:tblPr/>
              <a:tblGrid>
                <a:gridCol w="6388200"/>
                <a:gridCol w="1886040"/>
              </a:tblGrid>
              <a:tr h="244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Z BĚŽNÉ ČINNOSTI 2019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č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enské příspěv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20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tace MŠMT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z toh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22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. Organizace spor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8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. Re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4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. Ta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tace z krajů, obc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roky na úč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z pojistné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BĚŽNÁ ČINNOST celk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489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SAMOSTATNĚ ZÚČTOVA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spoluúčast užití úspor minul. ob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4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OV - užití příjmů z minulých 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 užití prostředků min. 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84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MY CELK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774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71560" y="-360"/>
            <a:ext cx="6029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c6080"/>
                </a:solidFill>
                <a:latin typeface="Arial"/>
              </a:rPr>
              <a:t>Návrh rozpočtu 2019 - výdaje</a:t>
            </a:r>
            <a:endParaRPr b="1" lang="en-US" sz="3200" spc="-1" strike="noStrike">
              <a:solidFill>
                <a:srgbClr val="2c608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85760" y="646200"/>
          <a:ext cx="6972480" cy="5133960"/>
        </p:xfrm>
        <a:graphic>
          <a:graphicData uri="http://schemas.openxmlformats.org/drawingml/2006/table">
            <a:tbl>
              <a:tblPr/>
              <a:tblGrid>
                <a:gridCol w="1560600"/>
                <a:gridCol w="1173240"/>
                <a:gridCol w="1558800"/>
                <a:gridCol w="1381320"/>
                <a:gridCol w="1298520"/>
              </a:tblGrid>
              <a:tr h="54936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ované výd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ované příj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je - příj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toho výdaje podmíněné vl. příjmy středi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40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ěžní lezení 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9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26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65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26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 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7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 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5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5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56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ácí soutěž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9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248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latky IF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260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 00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40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odní skialpinism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ský pohá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ěžní ledoleze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ácí soutěž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inism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 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 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kolí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ro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20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7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7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041480" y="379440"/>
          <a:ext cx="6972120" cy="6478560"/>
        </p:xfrm>
        <a:graphic>
          <a:graphicData uri="http://schemas.openxmlformats.org/drawingml/2006/table">
            <a:tbl>
              <a:tblPr/>
              <a:tblGrid>
                <a:gridCol w="1701720"/>
                <a:gridCol w="1380960"/>
                <a:gridCol w="1371600"/>
                <a:gridCol w="1219320"/>
                <a:gridCol w="1298520"/>
              </a:tblGrid>
              <a:tr h="54936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ované výd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ované příj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je - příj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toho výdaje podmíněné vl. příjmy středi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držba skal, 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2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22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á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7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7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ávci skal školení, odmě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y údržba sk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hrana přír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b Skály Č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i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56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lení instruktor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40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školování instruktor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56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ické d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40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antované horoš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56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kační činnos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248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56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áde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3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3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y mláde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klubů mládež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reditovaný kur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ěž Mladí horalov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záv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inárodní ke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ť reg. trenér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kání klub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103400" y="260280"/>
          <a:ext cx="6972120" cy="4489560"/>
        </p:xfrm>
        <a:graphic>
          <a:graphicData uri="http://schemas.openxmlformats.org/drawingml/2006/table">
            <a:tbl>
              <a:tblPr/>
              <a:tblGrid>
                <a:gridCol w="1560600"/>
                <a:gridCol w="1414440"/>
                <a:gridCol w="1461960"/>
                <a:gridCol w="1236600"/>
                <a:gridCol w="1298520"/>
              </a:tblGrid>
              <a:tr h="54936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ované výd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ované příj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je - příj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toho výdaje podmíněné vl. příjmy středi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í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8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ční skialpinism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camp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dy, odměny funkce,  cestovní náhr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1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1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40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jem, telekom, poš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40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žby ekonomické, účetní, práv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 na V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, IT služ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40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cel. potřeby, techni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tění majetku, odpově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8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é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7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103400" y="260280"/>
          <a:ext cx="6972120" cy="6256440"/>
        </p:xfrm>
        <a:graphic>
          <a:graphicData uri="http://schemas.openxmlformats.org/drawingml/2006/table">
            <a:tbl>
              <a:tblPr/>
              <a:tblGrid>
                <a:gridCol w="1560600"/>
                <a:gridCol w="1172880"/>
                <a:gridCol w="1559160"/>
                <a:gridCol w="1380960"/>
                <a:gridCol w="1298520"/>
              </a:tblGrid>
              <a:tr h="54936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ované výd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ované příj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je / příj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toho výdaje podmíněné vl. příjmy středi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žby členů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97 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97 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84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dy administrace člens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b členů, čl. průkaz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84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kom, pošta (podí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y JAMES, PZ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84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spěvky na festivaly, trad. ak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hov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84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spěvky UIAA, EUMA, 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400"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etek do půjčovny / půjčovn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40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bné zboží nákup / prod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financování Č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9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79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ce - sport. vybavení KSL spoluúčast 20%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8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ce – vozidl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účast 20%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12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er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4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353 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353 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300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8280">
                <a:tc gridSpan="5">
                  <a:txBody>
                    <a:bodyPr lIns="37800" rIns="378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podmíněno přidělením dotace MŠMT v plánované výš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 podmíněno vydáním publikace UI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 podmíněno přidělením investiční dotace MŠ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7000" y="180720"/>
            <a:ext cx="858024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c6080"/>
                </a:solidFill>
                <a:latin typeface="Arial"/>
                <a:ea typeface="ＭＳ Ｐゴシック"/>
              </a:rPr>
              <a:t>Zrušení pobočných spolků</a:t>
            </a: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160" name="TextovéPole 4"/>
          <p:cNvSpPr/>
          <p:nvPr/>
        </p:nvSpPr>
        <p:spPr>
          <a:xfrm>
            <a:off x="1211400" y="982800"/>
            <a:ext cx="7202520" cy="45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vrh na zrušení pobočných spolků dle OZ bez právního nástu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íl - dosažení souladu mezi faktickým stavem, stanovami a zápisem ve spolkovém rejstř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st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hodnutí o zrušení pobočných spol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menování likvid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kvidace, majetkové vypořá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maz z rejstř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ávrh jmenování likvidátora – Martin Vesel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000" y="180720"/>
            <a:ext cx="858024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c6080"/>
                </a:solidFill>
                <a:latin typeface="Arial"/>
                <a:ea typeface="ＭＳ Ｐゴシック"/>
              </a:rPr>
              <a:t>Novela Disciplinárního řádu</a:t>
            </a: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162" name="TextovéPole 4"/>
          <p:cNvSpPr/>
          <p:nvPr/>
        </p:nvSpPr>
        <p:spPr>
          <a:xfrm>
            <a:off x="1162080" y="1346040"/>
            <a:ext cx="7264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vrh na doplnění Disciplinárního řádu na základě doporučení Antidopingového výboru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 DŘ se navrhuje dopln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§ 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ůsobnost v oblasti antidopingových pravi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up a výše trestů v případech porušení antidopingových pravidel se řeší podle Směrnice pro kontrolu a postih dopingu ve sportu v České republice, vydané Antidopingovým výborem Č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000" y="180720"/>
            <a:ext cx="858024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c6080"/>
                </a:solidFill>
                <a:latin typeface="Arial"/>
                <a:ea typeface="ＭＳ Ｐゴシック"/>
              </a:rPr>
              <a:t>Členská dtb, Rejstřík sportu</a:t>
            </a:r>
            <a:endParaRPr b="1" lang="en-US" sz="4000" spc="-1" strike="noStrike">
              <a:solidFill>
                <a:srgbClr val="2c608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162080" y="1346040"/>
            <a:ext cx="7264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 konci roku 2018 byl spuštěn aktualizovaný systém evidence členů (databáze) a e-sh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učasně byl spuštěn zcela nový modul Předseda</a:t>
            </a:r>
            <a:r>
              <a:rPr b="1" lang="cs-CZ" sz="1800" spc="-1" strike="noStrike">
                <a:solidFill>
                  <a:srgbClr val="7f7f7f"/>
                </a:solidFill>
                <a:latin typeface="Arial"/>
              </a:rPr>
              <a:t>, který umožňuje předsedům oddílů spravovat členské základy oddílů a objednávat průkazy, Trio a pojišt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ystém evidence členů a objednávání průkazů byl vytvořen tak, aby byl komfortní pro členy i oddíly a umožňoval zpracování průkazů a pojištění pro velký počet člen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uštění celého systému předcházela důkladná kontrola databáze členů a oddíl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daje o členské základně ČHS byly na konci roku 2018 nahrány do Rejstříku spor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1036800" y="750960"/>
            <a:ext cx="72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Usnesení VH ČHS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36800" y="1452600"/>
            <a:ext cx="7937280" cy="54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H ČHS schvaluj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roční zprávu ČHS za rok 2018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rávu o hospodaření ČHS za rok 2018 včetně přednesených změn oproti zprávě zveřejněné v Bulletinu ČHS č.71/2019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rávu Revizní komise za období od předchozí Valné hromad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ýšení odměny (hrubé mzdy) předsedy ČHS na 30 100 Kč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počet ČHS na rok 2019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vrh na zrušení pobočných spolků ČHS uvedených v příloze tohoto usnesení bez právního nástupce, dle občanského zákoníku; jmenuje likvidátorem pobočných spolků uvedených v příloze tohoto usnesení Martina Veselého, 1. místopředsedu ČHS, dat. nar. 3.4.1965; zároveň souhlasí s využitím prostředků z dlouhodobé rezervy k vykrytí nákladů tohoto usnes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pravu Disciplinárního řádu ČHS o § 1a o působnosti v oblasti antidopingových pravidel ve smyslu předloženého návrhu v bulletinu ČHS č. 71/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lektivní připojení Českého horolezeckého svazu k výzvě „Aj my sme Tatry!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H jmenuj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H ČHS uklád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131840" y="173160"/>
            <a:ext cx="734220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c6080"/>
                </a:solidFill>
                <a:latin typeface="Arial"/>
              </a:rPr>
              <a:t>Partneři Č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5" descr=""/>
          <p:cNvPicPr/>
          <p:nvPr/>
        </p:nvPicPr>
        <p:blipFill>
          <a:blip r:embed="rId1"/>
          <a:stretch/>
        </p:blipFill>
        <p:spPr>
          <a:xfrm>
            <a:off x="1539720" y="3200400"/>
            <a:ext cx="559116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6" descr=""/>
          <p:cNvPicPr/>
          <p:nvPr/>
        </p:nvPicPr>
        <p:blipFill>
          <a:blip r:embed="rId2"/>
          <a:stretch/>
        </p:blipFill>
        <p:spPr>
          <a:xfrm>
            <a:off x="2313000" y="5248440"/>
            <a:ext cx="389880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7" descr=""/>
          <p:cNvPicPr/>
          <p:nvPr/>
        </p:nvPicPr>
        <p:blipFill>
          <a:blip r:embed="rId3"/>
          <a:stretch/>
        </p:blipFill>
        <p:spPr>
          <a:xfrm>
            <a:off x="1539720" y="1227240"/>
            <a:ext cx="5591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1036800" y="750960"/>
            <a:ext cx="72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Usnesení VH ČHS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36800" y="1452600"/>
            <a:ext cx="793728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H ČHS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kládá Výkonnému výboru ČHS, aby na Valnou hromadu ČHS v roce 2020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ložil zprávu o průběhu a výsledku likvidace pobočných spolků.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alná hromada bere na vědom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že vyřazený datový projektor byl vydražen za 950 Kč, které se stanou dalším příjmem do rozpočtu Č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890800" y="190440"/>
            <a:ext cx="734220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c6080"/>
                </a:solidFill>
                <a:latin typeface="Arial"/>
              </a:rPr>
              <a:t>Partneři Č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rázek 2" descr=""/>
          <p:cNvPicPr/>
          <p:nvPr/>
        </p:nvPicPr>
        <p:blipFill>
          <a:blip r:embed="rId1"/>
          <a:stretch/>
        </p:blipFill>
        <p:spPr>
          <a:xfrm>
            <a:off x="743040" y="3705120"/>
            <a:ext cx="3525840" cy="1108080"/>
          </a:xfrm>
          <a:prstGeom prst="rect">
            <a:avLst/>
          </a:prstGeom>
          <a:ln w="0">
            <a:noFill/>
          </a:ln>
        </p:spPr>
      </p:pic>
      <p:pic>
        <p:nvPicPr>
          <p:cNvPr id="68" name="Obrázek 3" descr=""/>
          <p:cNvPicPr/>
          <p:nvPr/>
        </p:nvPicPr>
        <p:blipFill>
          <a:blip r:embed="rId2"/>
          <a:stretch/>
        </p:blipFill>
        <p:spPr>
          <a:xfrm>
            <a:off x="2722680" y="5291280"/>
            <a:ext cx="3695760" cy="133812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4" descr=""/>
          <p:cNvPicPr/>
          <p:nvPr/>
        </p:nvPicPr>
        <p:blipFill>
          <a:blip r:embed="rId3"/>
          <a:stretch/>
        </p:blipFill>
        <p:spPr>
          <a:xfrm>
            <a:off x="4979880" y="3699000"/>
            <a:ext cx="35798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9" descr=""/>
          <p:cNvPicPr/>
          <p:nvPr/>
        </p:nvPicPr>
        <p:blipFill>
          <a:blip r:embed="rId4"/>
          <a:stretch/>
        </p:blipFill>
        <p:spPr>
          <a:xfrm>
            <a:off x="585720" y="1471680"/>
            <a:ext cx="3683160" cy="175104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1" descr=""/>
          <p:cNvPicPr/>
          <p:nvPr/>
        </p:nvPicPr>
        <p:blipFill>
          <a:blip r:embed="rId5"/>
          <a:stretch/>
        </p:blipFill>
        <p:spPr>
          <a:xfrm>
            <a:off x="6040440" y="1143000"/>
            <a:ext cx="20890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025720" y="372960"/>
            <a:ext cx="734220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c6080"/>
                </a:solidFill>
                <a:latin typeface="Arial"/>
              </a:rPr>
              <a:t>Mediální partneři Č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6" descr=""/>
          <p:cNvPicPr/>
          <p:nvPr/>
        </p:nvPicPr>
        <p:blipFill>
          <a:blip r:embed="rId1"/>
          <a:stretch/>
        </p:blipFill>
        <p:spPr>
          <a:xfrm>
            <a:off x="5943600" y="1482840"/>
            <a:ext cx="1925640" cy="192708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7" descr=""/>
          <p:cNvPicPr/>
          <p:nvPr/>
        </p:nvPicPr>
        <p:blipFill>
          <a:blip r:embed="rId2"/>
          <a:stretch/>
        </p:blipFill>
        <p:spPr>
          <a:xfrm>
            <a:off x="1122480" y="4313160"/>
            <a:ext cx="2671560" cy="102240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11" descr=""/>
          <p:cNvPicPr/>
          <p:nvPr/>
        </p:nvPicPr>
        <p:blipFill>
          <a:blip r:embed="rId3"/>
          <a:stretch/>
        </p:blipFill>
        <p:spPr>
          <a:xfrm>
            <a:off x="5494320" y="4238640"/>
            <a:ext cx="2131920" cy="1044720"/>
          </a:xfrm>
          <a:prstGeom prst="rect">
            <a:avLst/>
          </a:prstGeom>
          <a:ln w="0">
            <a:noFill/>
          </a:ln>
        </p:spPr>
      </p:pic>
      <p:pic>
        <p:nvPicPr>
          <p:cNvPr id="76" name="Obrázek 12" descr=""/>
          <p:cNvPicPr/>
          <p:nvPr/>
        </p:nvPicPr>
        <p:blipFill>
          <a:blip r:embed="rId4"/>
          <a:stretch/>
        </p:blipFill>
        <p:spPr>
          <a:xfrm>
            <a:off x="2676600" y="5791320"/>
            <a:ext cx="3838680" cy="639720"/>
          </a:xfrm>
          <a:prstGeom prst="rect">
            <a:avLst/>
          </a:prstGeom>
          <a:ln w="0">
            <a:noFill/>
          </a:ln>
        </p:spPr>
      </p:pic>
      <p:pic>
        <p:nvPicPr>
          <p:cNvPr id="77" name="Obrázek 1" descr=""/>
          <p:cNvPicPr/>
          <p:nvPr/>
        </p:nvPicPr>
        <p:blipFill>
          <a:blip r:embed="rId5"/>
          <a:stretch/>
        </p:blipFill>
        <p:spPr>
          <a:xfrm>
            <a:off x="1170000" y="1393920"/>
            <a:ext cx="26240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73240" y="873000"/>
            <a:ext cx="73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c6080"/>
                </a:solidFill>
                <a:latin typeface="Arial"/>
              </a:rPr>
              <a:t>Zpráva mandátové kom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1"/>
          <p:cNvSpPr/>
          <p:nvPr/>
        </p:nvSpPr>
        <p:spPr>
          <a:xfrm>
            <a:off x="1173240" y="2044800"/>
            <a:ext cx="6443640" cy="28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kem členů ČHS s právem hlasovat 14 5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tomní nebo zastoupení členové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 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astoupení na VH - 23,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alná hromada je usnášeníschopná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374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438280" y="3622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30320" y="277920"/>
            <a:ext cx="783576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c6080"/>
                </a:solidFill>
                <a:latin typeface="Arial"/>
              </a:rPr>
              <a:t>Návrh na schválení P. Aksamita ve funkci člena VV Č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17520" y="1679400"/>
            <a:ext cx="753444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. Aksamit byl kooptován do VV 21. května 2018, po odstoupení Radana Keila z funkce (6.4.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optace a následné schválení valnou hromadou je v souladu s čl. VIII. odst. 10 Stanov Č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unkční období – od data kooptace do Valné hromady ČHS 2021, shodně jako ostatní členové VV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8:47:33Z</dcterms:created>
  <dc:creator>Jan Bloudek</dc:creator>
  <dc:description/>
  <dc:language>en-US</dc:language>
  <cp:lastModifiedBy>Valentova</cp:lastModifiedBy>
  <cp:lastPrinted>2018-03-23T20:24:29Z</cp:lastPrinted>
  <dcterms:modified xsi:type="dcterms:W3CDTF">2019-03-25T10:53:28Z</dcterms:modified>
  <cp:revision>496</cp:revision>
  <dc:subject/>
  <dc:title>Vyučtování 2011 Rozpočet 2012</dc:title>
</cp:coreProperties>
</file>